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camera.wav" ContentType="audio/x-wav"/>
  <Override PartName="/ppt/media/bomb.wav" ContentType="audio/x-wav"/>
  <Override PartName="/ppt/media/image4.jpeg" ContentType="image/jpeg"/>
  <Override PartName="/ppt/media/type.wav" ContentType="audio/x-wav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2666-A5EA-45F3-A087-7DE00428BA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9A42-10B9-40E1-B285-57C13EB6BA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5A6-AF11-4A78-9745-B3F2B2CE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50C-FB4C-4A62-B08A-E0CE74CF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8E5-8ABE-4C87-B6D4-161C3D6E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F70-8CF3-432F-A7B3-7FBFE5F5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AA6-01CD-4F54-8BF8-22E284FB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B8D-6305-4DC3-AB58-25C2DAAB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ACF-48FD-420C-9231-84179158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B1A-D5BD-40B4-A798-4506FFB2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3E2-7631-4BF4-A16A-195344C1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7FD-FD61-4742-B6DE-88F3AA6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00B-B51A-47D2-852C-1D144136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127-1929-44A7-8783-FCE1D604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2D9B-734C-4EB4-8951-2DC2ED5BEB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5a0cd8da8282da5208b6fa60d3a1ffe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600" spc="-1" strike="noStrike">
                <a:solidFill>
                  <a:srgbClr val="ffffff"/>
                </a:solidFill>
                <a:latin typeface="Arial"/>
                <a:cs typeface="Mudir MT"/>
              </a:rPr>
              <a:t>التصور الاسلامي عن الرسل عليهم السلا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- ووقفوا جميعا في وجه الظلم والفساد 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مثل على ذل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504800"/>
          <a:ext cx="8229600" cy="2500560"/>
        </p:xfrm>
        <a:graphic>
          <a:graphicData uri="http://schemas.openxmlformats.org/drawingml/2006/table">
            <a:tbl>
              <a:tblPr/>
              <a:tblGrid>
                <a:gridCol w="4319640"/>
                <a:gridCol w="1390680"/>
                <a:gridCol w="251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وجه 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وع الظ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م الن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ومه الذين كانوا يمارسون الفاحش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خلاق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وط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ومه الذين كانوا يطففون الموازين والمكايي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قتصاد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يب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ي وجه فرعون وجبروت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ياس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سى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</a:rPr>
              <a:t>وضح الفرق بين العقيد والشريع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981000"/>
          <a:ext cx="9144000" cy="3565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شريع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عقيد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أوامر ونواه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خب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ر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لأن ما يصلح أو لمكان  أو قوم  زمان لا يصلح لغير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الأخبار الصادقة عن الشيء الواحد لا يصح أن تختلف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علي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</a:rPr>
              <a:t>وضح الفهم الصحيح لهاتين الآيتين </a:t>
            </a:r>
            <a:br>
              <a:rPr sz="4000"/>
            </a:br>
            <a:r>
              <a:rPr b="0" lang="ar-SA" sz="4000" spc="-1" strike="noStrike">
                <a:solidFill>
                  <a:srgbClr val="0070c0"/>
                </a:solidFill>
                <a:latin typeface="Arial"/>
              </a:rPr>
              <a:t>كيف توفق بين هاتين الآيتين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036000" cy="271296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فهم الصحيح له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ي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مقصود بالتفرق : هو الإيمان ببعضهم والكفر بآخر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«لا نفرق بين أحد من رسله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له ميز بعض الأنبياء بميزات ليست لغير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«تلك الرسل فضلنا بعضهم على بعض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3300"/>
                </a:solidFill>
                <a:latin typeface="Arial"/>
              </a:rPr>
              <a:t>اذكر ما تميز به كل من الأنبياء التالية أسماؤه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836640"/>
          <a:ext cx="9144000" cy="7624800"/>
        </p:xfrm>
        <a:graphic>
          <a:graphicData uri="http://schemas.openxmlformats.org/drawingml/2006/table">
            <a:tbl>
              <a:tblPr/>
              <a:tblGrid>
                <a:gridCol w="6751800"/>
                <a:gridCol w="239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يزات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أبو الأنبي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اتخذه الله خليل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براهيم عليه السلا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يم الل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سى عليه السلا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مة الله ألقاها إلى مريم البتول ، فحملت به من غير أن يمسها رج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يس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ميز الرسول محمد (</a:t>
                      </a:r>
                      <a:r>
                        <a:rPr b="0" lang="ar-SA" sz="2800" spc="-1" strike="noStrike">
                          <a:solidFill>
                            <a:srgbClr val="c00000"/>
                          </a:solidFill>
                          <a:latin typeface="AGA Arabesque"/>
                          <a:ea typeface="AGA Arabesque"/>
                        </a:rPr>
                        <a:t>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بأمور منها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 الانبياء السابقين بشروا به ودعوا الناس الى اتباع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ه خاتم الانبياء والمرسلين فلا نبي بعده قال تعالى : </a:t>
                      </a:r>
                      <a:r>
                        <a:rPr b="0" lang="ar-SA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«ولكن رسول الله وخاتم النبيين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ه بعث الى الناس كافة بخلاف الانبياء الذين كان كل منهم يبعث الى قومه خاص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 الله سبحانه ايده بمعجزة خالدة هي القران الكريم بينما كانت معجزات الرسل السابقين خاصة بأزمانهم وأقوامه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حمد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GA Arabesque"/>
                          <a:ea typeface="AGA Arabesque"/>
                        </a:rPr>
                        <a:t>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87ab6bf321c4ac4e5dc97b065f3e0d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539640" y="549360"/>
            <a:ext cx="828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Mudir MT"/>
              </a:rPr>
              <a:t>الاهداف: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Mudir MT"/>
              </a:rPr>
              <a:t>سنتناول في هذا الدرس التصور الاسلامي عن الرسل من حيث :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1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حكمة من ارسالهم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2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رسل بشر مصطفون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3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وحدة اصل الرسالات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4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مفاضلة بين الرس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vert"/>
    <p:sndAc>
      <p:stSnd>
        <p:snd r:embed="rId2" name="camera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23394msha3ry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9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caef117597"/>
          <p:cNvPicPr/>
          <p:nvPr/>
        </p:nvPicPr>
        <p:blipFill>
          <a:blip r:embed="rId2"/>
          <a:stretch/>
        </p:blipFill>
        <p:spPr>
          <a:xfrm>
            <a:off x="7812000" y="1916280"/>
            <a:ext cx="389160" cy="31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caef117597"/>
          <p:cNvPicPr/>
          <p:nvPr/>
        </p:nvPicPr>
        <p:blipFill>
          <a:blip r:embed="rId3"/>
          <a:stretch/>
        </p:blipFill>
        <p:spPr>
          <a:xfrm>
            <a:off x="7812000" y="357336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caef117597"/>
          <p:cNvPicPr/>
          <p:nvPr/>
        </p:nvPicPr>
        <p:blipFill>
          <a:blip r:embed="rId4"/>
          <a:stretch/>
        </p:blipFill>
        <p:spPr>
          <a:xfrm>
            <a:off x="7812000" y="414972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caef117597"/>
          <p:cNvPicPr/>
          <p:nvPr/>
        </p:nvPicPr>
        <p:blipFill>
          <a:blip r:embed="rId5"/>
          <a:stretch/>
        </p:blipFill>
        <p:spPr>
          <a:xfrm>
            <a:off x="7812000" y="515772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caef117597"/>
          <p:cNvPicPr/>
          <p:nvPr/>
        </p:nvPicPr>
        <p:blipFill>
          <a:blip r:embed="rId6"/>
          <a:stretch/>
        </p:blipFill>
        <p:spPr>
          <a:xfrm>
            <a:off x="7812000" y="5805360"/>
            <a:ext cx="389160" cy="312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6"/>
          <p:cNvSpPr/>
          <p:nvPr/>
        </p:nvSpPr>
        <p:spPr>
          <a:xfrm>
            <a:off x="9716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rdiaUPC"/>
                <a:cs typeface="Mudir MT"/>
              </a:rPr>
              <a:t>من حكم ارسال الرس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755640" y="1844640"/>
            <a:ext cx="70484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قطع الحجة على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ndalus"/>
              </a:rPr>
              <a:t>الناس،قال تعالى:رسلا مبشرين ومنذرين لئلا يكون للناس على الله حجة بعد الرس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بيان حقائق العقيدة الصحيحة ل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رشاد الناس الى شريعة الله تعالى التي فيها سعادتهم وهناؤهم في دنياهم واختر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لقدوة الحسنة للناس في كل خ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بيان كيفية عباده الله سبح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hecker dir="horz"/>
    <p:sndAc>
      <p:stSnd>
        <p:snd r:embed="rId7" name="type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3735_2_12699339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53964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udir MT"/>
              </a:rPr>
              <a:t>الرسل بشر مصطفو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84360" y="2681280"/>
            <a:ext cx="784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udir MT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udir MT"/>
              </a:rPr>
              <a:t>- شاء الله سبحانه ان يكون رسله الى الناس بشرا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Mudir MT"/>
              </a:rPr>
              <a:t>علل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Mudir MT"/>
              </a:rPr>
              <a:t>وذلك حتى يسهل على الناس التعلم منهم والاقتداء بهم فلو كان الانبياء ملائكة ما امكن الناس ان يتعاملوا ويسمعوا منهم وما كانوا قدوة للناس لاختلاف طبيعتهم عن طبيعة الب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ndalus"/>
              </a:rPr>
              <a:t>قال تعالى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Andalus"/>
              </a:rPr>
              <a:t>:( ان اتبع الا ما يوحى ال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  <p:sndAc>
      <p:stSnd>
        <p:snd r:embed="rId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57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29 0.069 0.09189 C 0.069 0.12519 0.056 0.15449 0.037 0.1718 L 0.036 0.1718 C 0.029 0.17846 0.025 0.18911 0.025 0.2011 C 0.025 0.21175 0.029 0.22108 0.034 0.22774 C 0.042 0.23839 0.047 0.25437 0.047 0.27035 C 0.047 0.30498 0.026 0.33295 0 0.33295 C -0.026 0.33295 -0.047 0.30498 -0.047 0.27035 C -0.047 0.25437 -0.042 0.23839 -0.034 0.22774 C -0.029 0.22108 -0.026 0.21175 -0.026 0.2011 C -0.026 0.18911 -0.03 0.17846 -0.036 0.1718 L -0.037 0.1718 C -0.057 0.15449 -0.07 0.12519 -0.07 0.09189 C -0.07 0.04129 -0.039 0 0 0 Z">
                                      <p:cBhvr>
                                        <p:cTn id="5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0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29 0.069 0.09189 C 0.069 0.12519 0.056 0.15449 0.037 0.1718 L 0.036 0.1718 C 0.029 0.17846 0.025 0.18911 0.025 0.2011 C 0.025 0.21175 0.029 0.22108 0.034 0.22774 C 0.042 0.23839 0.047 0.25437 0.047 0.27035 C 0.047 0.30498 0.026 0.33295 0 0.33295 C -0.026 0.33295 -0.047 0.30498 -0.047 0.27035 C -0.047 0.25437 -0.042 0.23839 -0.034 0.22774 C -0.029 0.22108 -0.026 0.21175 -0.026 0.2011 C -0.026 0.18911 -0.03 0.17846 -0.036 0.1718 L -0.037 0.1718 C -0.057 0.15449 -0.07 0.12519 -0.07 0.09189 C -0.07 0.04129 -0.039 0 0 0 Z">
                                      <p:cBhvr>
                                        <p:cTn id="61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 fontScale="93000"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- ومع أن الرسل بشر ، إلا أنهم يتميزون بأن الله سبحانه اصطفاهم ليكونوا رسله ، يبلغون دينه وشريعته ، فالنبوة محض اصطفاء واختيار من الله سبحانه لا يوصل اليها بالتأمل أو التعبد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- فالرسل أصدق الناس وأكملهم خلفاً وأوفرهم عقلاً وذكاء، وهم أمناء في التبليغ، قال تعالى: «إن أتبع إلا ما يوحى إليّ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بم 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يتميز التصور الإسلامي للرسل عن التصورات الأخر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التي : س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أ- ترفع بعض الأنبياء إلى مقام الألوهية وتضفي عليهم التقديس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ب- كما يتميز عن التصورات التي تنسب إليهم المعاصي والفواحش. ، كالونا والسكر والاحتيال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39ade3c4f55cd1f201273d874226ab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1116000" y="119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24000" y="1224000"/>
            <a:ext cx="83534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Arial"/>
                <a:cs typeface="Mudir MT"/>
              </a:rPr>
              <a:t>ارسل الله تعالى انبياء ورسلاً كثيرين يعلمون الناس ويهدونهم وقد بعثوا جميع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cs typeface="Mudir MT"/>
              </a:rPr>
              <a:t>بم تشترك جميع الرسالات السماوي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Arial"/>
                <a:ea typeface="Mudir MT"/>
              </a:rPr>
              <a:t>1</a:t>
            </a:r>
            <a:r>
              <a:rPr b="1" lang="ar-SA" sz="3600" spc="-1" strike="noStrike">
                <a:solidFill>
                  <a:srgbClr val="669900"/>
                </a:solidFill>
                <a:latin typeface="Arial"/>
                <a:ea typeface="Mudir MT"/>
              </a:rPr>
              <a:t>- بعقيدة واحدة هي عقيدة التوحيد التي تعرف الناس بربهم وتدعوهم لعبادته وحده سبحانه </a:t>
            </a:r>
            <a:r>
              <a:rPr b="1" lang="ar-SA" sz="3600" spc="-1" strike="noStrike">
                <a:solidFill>
                  <a:srgbClr val="669900"/>
                </a:solidFill>
                <a:latin typeface="Arial"/>
                <a:cs typeface="Andalus"/>
              </a:rPr>
              <a:t>قال تعالى :( ولقد بعثنا في كل امة رسولا ان اعبدوا الله واجتنبوا الطاغوت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newsflash/>
    <p:sndAc>
      <p:stSnd>
        <p:snd r:embed="rId2" name="bomb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حدة اصل الرسال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رسل الله تعالى انبياء ورسلاً كثيرين يعلمون الناس ويهدونهم وقد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بعثوا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جميع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م تشترك جميع الرسالات السماوي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بعقيدة واحدة هي عقيدة التوحيد التي تعرف الناس بربهم وتدعوهم لعبادته وحده سبحانه قال تعالى :( و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لقد بعثنا في كل امة رسولا ان اعبدوا الله واجتنبوا الطاغوت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كما أن الأنبياء جميعاً دعوا إلى تهذيب النف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ونهوا عن الفحشاء والمنكر والبغ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ومع أن أصل الرسالات واحد إلا أن تفاصيل الشريعة تختلف من رسول لآخر 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مثل على اختلاف الأنبياء في تفاصبيل شرائعه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- كالاختلاف في تفاصيل العبادات وأوقات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- والاختلاف في المحرمات من الأطعمة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، قال تعالى: </a:t>
            </a:r>
            <a:r>
              <a:rPr b="0" lang="ar-SA" sz="4800" spc="-1" strike="noStrike">
                <a:solidFill>
                  <a:srgbClr val="669900"/>
                </a:solidFill>
                <a:latin typeface="Arial"/>
              </a:rPr>
              <a:t>« لكل جعلنا منكم شرعة ومنهاجاً 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8:13:13Z</dcterms:created>
  <dc:creator>منيب</dc:creator>
  <dc:description/>
  <dc:language>en-US</dc:language>
  <cp:lastModifiedBy>عبد الله زيد</cp:lastModifiedBy>
  <dcterms:modified xsi:type="dcterms:W3CDTF">2014-10-19T20:28:33Z</dcterms:modified>
  <cp:revision>31</cp:revision>
  <dc:subject/>
  <dc:title>التصور الاسلامي عن الرسل عليهم السلام</dc:title>
</cp:coreProperties>
</file>